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0ED-3278-40B3-986F-523F9649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CBD-AD61-4A8C-AC5F-3E78456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A1D-81D0-4FC8-8F9F-6512A85D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398-1E51-4C0A-8006-7A234F27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232-62A4-4C5E-85E7-D44F465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3D6-7914-4C24-81E4-AF81AE6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C0E-B741-4DA3-B343-71BD29F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DD-E0F5-4A39-807E-BCFEFB2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35B-C4A0-4650-88FF-6734F486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6A2-290B-483A-8B6C-D944C93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9E6-4C09-4A7E-BD95-520843F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336-42AA-4993-AC01-A6D5C93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8F0D-F529-4904-BCD2-B38961C24F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10253f"/>
                </a:solidFill>
                <a:latin typeface="Arial Black"/>
                <a:ea typeface="Cambria Math"/>
              </a:rPr>
              <a:t>Edipo Re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3bed3"/>
                </a:solidFill>
                <a:latin typeface="Arial Black"/>
              </a:rPr>
              <a:t>Sófoc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4. Revelaciones de </a:t>
            </a:r>
            <a:br>
              <a:rPr sz="4000"/>
            </a:b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Yocasta y Edip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ocasta cuenta la verdadera muerte de Layo y Edipo lo relaciona con un asesinato que él mismo cometió. Pero no saca nada en claro, no todo coincid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Yocasta1.jpg"/>
          <p:cNvPicPr/>
          <p:nvPr/>
        </p:nvPicPr>
        <p:blipFill>
          <a:blip r:embed="rId2"/>
          <a:stretch/>
        </p:blipFill>
        <p:spPr>
          <a:xfrm>
            <a:off x="3643200" y="2571840"/>
            <a:ext cx="2214720" cy="3752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5. El mensajero y el testi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ensajero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dipo descubre que es el mismo pastor que lo entregó a los reyes de Cori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Testigo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vela toda la verdad (los verdaderos padres de Edipo, la muerte de Layo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chaudet-antoine-denis-phorbas-bringing-oedipus-back-to-life-1802-18-marble-1059027.jpg"/>
          <p:cNvPicPr/>
          <p:nvPr/>
        </p:nvPicPr>
        <p:blipFill>
          <a:blip r:embed="rId2"/>
          <a:stretch/>
        </p:blipFill>
        <p:spPr>
          <a:xfrm>
            <a:off x="3143160" y="2714760"/>
            <a:ext cx="3143520" cy="3794040"/>
          </a:xfrm>
          <a:prstGeom prst="rect">
            <a:avLst/>
          </a:prstGeom>
          <a:ln w="0">
            <a:noFill/>
          </a:ln>
        </p:spPr>
      </p:pic>
      <p:sp>
        <p:nvSpPr>
          <p:cNvPr id="68" name="4 CuadroTexto"/>
          <p:cNvSpPr/>
          <p:nvPr/>
        </p:nvSpPr>
        <p:spPr>
          <a:xfrm>
            <a:off x="3714840" y="6357960"/>
            <a:ext cx="20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dipo y el pastor – Antoine Denis Cahud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0253f"/>
                </a:solidFill>
                <a:latin typeface="Arial Black"/>
              </a:rPr>
              <a:t>6. Desen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ocasta se ahorca y Edipo se arranca los ojos a modo de liberación de las vendas que le impedían ver la real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Imagen" descr="Oedipus.jpg"/>
          <p:cNvPicPr/>
          <p:nvPr/>
        </p:nvPicPr>
        <p:blipFill>
          <a:blip r:embed="rId2"/>
          <a:stretch/>
        </p:blipFill>
        <p:spPr>
          <a:xfrm>
            <a:off x="2786040" y="2428920"/>
            <a:ext cx="264312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4 CuadroTexto"/>
          <p:cNvSpPr/>
          <p:nvPr/>
        </p:nvSpPr>
        <p:spPr>
          <a:xfrm>
            <a:off x="2714760" y="6000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presentación de Edipo con los ojos extra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73bed3"/>
                </a:solidFill>
                <a:latin typeface="Arial Black"/>
              </a:rPr>
              <a:t>Films derivados del núcleo argumental de ‘Edipo Rey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 Black"/>
              </a:rPr>
              <a:t>La intérpre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 u="sng">
                <a:solidFill>
                  <a:srgbClr val="000000"/>
                </a:solidFill>
                <a:uFillTx/>
                <a:latin typeface="Arial Black"/>
              </a:rPr>
              <a:t> 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 u="sng">
                <a:solidFill>
                  <a:srgbClr val="000000"/>
                </a:solidFill>
                <a:uFillTx/>
                <a:latin typeface="Arial Black"/>
              </a:rPr>
              <a:t> 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intérprete Silvia Broome , oye una conversación en una lengua africana poco conocida en la que queda clara la intención de asesinar a un jefe de Estado del continente negro. Silvia se convierte en el blanco de los asesinos. Cuando le asignan a un agente federal para protegerla, su mundo se convierte en una verdadera pesadilla. A medida que el agente va indagado en su pasado más evidentes son las pruebas de que ella está implicada en la conspi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9 Imagen" descr="49d8fb_1.jpg"/>
          <p:cNvPicPr/>
          <p:nvPr/>
        </p:nvPicPr>
        <p:blipFill>
          <a:blip r:embed="rId1"/>
          <a:stretch/>
        </p:blipFill>
        <p:spPr>
          <a:xfrm>
            <a:off x="4857840" y="1000080"/>
            <a:ext cx="314316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 Black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4 Marcador de contenido" descr="200801133057_26307300-pelicula-matrix.jpg"/>
          <p:cNvPicPr/>
          <p:nvPr/>
        </p:nvPicPr>
        <p:blipFill>
          <a:blip r:embed="rId1"/>
          <a:stretch/>
        </p:blipFill>
        <p:spPr>
          <a:xfrm>
            <a:off x="4643280" y="1000080"/>
            <a:ext cx="3643560" cy="5000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s el mundo lo que parece? Un programador de una importante empresa de software y asaltador informático de alias 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</a:rPr>
              <a:t>Neo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, averiguará que no. Con él contactará un extraño grupo encabezado por Morfeo , quien le mostrará la verdadera realidad que se esconde tras lo aparente: un mundo dominado por las máquinas, las cuales esclavizan a la Humanidad para utilizar nuestros cuerpos como simple fuente de energía. ¿Pero, y nuestra mente, dónde se encuentra entonces? la respuesta está en Matrix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0253f"/>
                </a:solidFill>
                <a:latin typeface="Arial Black"/>
              </a:rPr>
              <a:t>Otros títul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2 Imagen" descr="img007-img00339.jpg"/>
          <p:cNvPicPr/>
          <p:nvPr/>
        </p:nvPicPr>
        <p:blipFill>
          <a:blip r:embed="rId1"/>
          <a:stretch/>
        </p:blipFill>
        <p:spPr>
          <a:xfrm>
            <a:off x="785880" y="1285920"/>
            <a:ext cx="164304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3 Imagen" descr="desafiototal3be.jpg"/>
          <p:cNvPicPr/>
          <p:nvPr/>
        </p:nvPicPr>
        <p:blipFill>
          <a:blip r:embed="rId2"/>
          <a:stretch/>
        </p:blipFill>
        <p:spPr>
          <a:xfrm>
            <a:off x="4929120" y="121428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85" name="4 Imagen" descr="2008012630_190.jpg"/>
          <p:cNvPicPr/>
          <p:nvPr/>
        </p:nvPicPr>
        <p:blipFill>
          <a:blip r:embed="rId3"/>
          <a:stretch/>
        </p:blipFill>
        <p:spPr>
          <a:xfrm>
            <a:off x="642960" y="421488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8586.jpg"/>
          <p:cNvPicPr/>
          <p:nvPr/>
        </p:nvPicPr>
        <p:blipFill>
          <a:blip r:embed="rId4"/>
          <a:stretch/>
        </p:blipFill>
        <p:spPr>
          <a:xfrm>
            <a:off x="4857840" y="4000680"/>
            <a:ext cx="1857240" cy="26431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2571840" y="1571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rnie, la ladrona.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786720" y="15001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fío total.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CuadroTexto"/>
          <p:cNvSpPr/>
          <p:nvPr/>
        </p:nvSpPr>
        <p:spPr>
          <a:xfrm>
            <a:off x="2571840" y="44290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aja de música.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6929280" y="4286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ento.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b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428760" y="78588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Alumno/a: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limente Carratalá,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Profesor/a: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ses, Mª Te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Asignatura: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ferentes clásicos en las manifestaciones culturales mode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Fecha de entreg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9 de Abril de 2010 (19/04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0253f"/>
                </a:solidFill>
                <a:latin typeface="Calibri"/>
              </a:rPr>
              <a:t>‘</a:t>
            </a:r>
            <a:r>
              <a:rPr b="1" lang="es-ES" sz="4400" spc="-1" strike="noStrike">
                <a:solidFill>
                  <a:srgbClr val="10253f"/>
                </a:solidFill>
                <a:latin typeface="Calibri"/>
              </a:rPr>
              <a:t>Edipo Rey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6 Marcador de contenido" descr="edipo.jpg"/>
          <p:cNvPicPr/>
          <p:nvPr/>
        </p:nvPicPr>
        <p:blipFill>
          <a:blip r:embed="rId2"/>
          <a:stretch/>
        </p:blipFill>
        <p:spPr>
          <a:xfrm>
            <a:off x="4987800" y="925560"/>
            <a:ext cx="2941920" cy="521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Tragedia griega calificada como la obra maestra de Sófoc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Cuenta la parte de la historia de Edipo en que se convierte en rey de Tebas y esposo de Yocasta, para luego descubrir que ésta es su madre y que él mismo fue el asesino de su padre. Finalmente Yocasta se cuelga y Edipo se saca los ojos a modo de liberació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3bed3"/>
                </a:solidFill>
                <a:latin typeface="Arial Black"/>
              </a:rPr>
              <a:t>A partir de ‘Edipo Rey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tragedia, ha dado lugar a un sinfín de largometrajes, pero, en casi todos los casos, el argumento de éstos es de investigación, o de género policía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Elementos presentes</a:t>
            </a:r>
            <a:br>
              <a:rPr sz="4000"/>
            </a:b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 en el mi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Un hombre, se encuentra solo frente a la voluntad div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produce uno o más sucesos para indag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hombre se considera libertador de los oprimidos e investiga buscando el enemigo en el exteri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búsqueda de la realidad se convierte en su prior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investigación se vuelve contra é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encuentra con un enfrentamiento con la parte turbia de sí mism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libe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Inspiraciones en personajes</a:t>
            </a:r>
            <a:br>
              <a:rPr sz="4000"/>
            </a:br>
            <a:r>
              <a:rPr b="0" lang="es-ES" sz="2800" spc="-1" strike="noStrike">
                <a:solidFill>
                  <a:srgbClr val="10253f"/>
                </a:solidFill>
                <a:latin typeface="Arial Black"/>
              </a:rPr>
              <a:t>(</a:t>
            </a:r>
            <a:r>
              <a:rPr b="0" lang="es-ES" sz="2200" spc="-1" strike="noStrike">
                <a:solidFill>
                  <a:srgbClr val="10253f"/>
                </a:solidFill>
                <a:latin typeface="Arial Black"/>
              </a:rPr>
              <a:t>La aparición de los personajes es opcional. No siempre han de aparecer todo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sfinge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anunci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orácul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omo divinidades o ayudas en la “investigació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te del puebl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personajes lineales que poco a poco son conscientes de la verdadera sit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ip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el hombre racional, que prioriza su investigación, que acaba por destruir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y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el motivo de la investi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ocast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persona implicada a la que le afectan los pasos del ‘Edipo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us ex machin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ele aparecer de la nada como una ayuda milagr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10253f"/>
                </a:solidFill>
                <a:latin typeface="Arial Black"/>
              </a:rPr>
              <a:t>Partes de ‘Edipo Rey’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1. La Peste en Tebas </a:t>
            </a:r>
            <a:r>
              <a:rPr b="0" lang="es-ES" sz="2300" spc="-1" strike="noStrike">
                <a:solidFill>
                  <a:srgbClr val="73bed3"/>
                </a:solidFill>
                <a:latin typeface="Arial Black"/>
              </a:rPr>
              <a:t>(hasta que no se averigüe quien fue el asesino del rey Lay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PesteTebasJalabeatCgfajalabeat1.jpg"/>
          <p:cNvPicPr/>
          <p:nvPr/>
        </p:nvPicPr>
        <p:blipFill>
          <a:blip r:embed="rId2"/>
          <a:stretch/>
        </p:blipFill>
        <p:spPr>
          <a:xfrm>
            <a:off x="3382920" y="1600200"/>
            <a:ext cx="23781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335772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 peste de Tebas - Charles Franç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2. Llegada de Edipo y predicciones del adivino Tiresias contra é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tiresias.gif"/>
          <p:cNvPicPr/>
          <p:nvPr/>
        </p:nvPicPr>
        <p:blipFill>
          <a:blip r:embed="rId2"/>
          <a:stretch/>
        </p:blipFill>
        <p:spPr>
          <a:xfrm>
            <a:off x="2571840" y="2071800"/>
            <a:ext cx="435744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3. Edipo acusa a Creonte (Hermano de Yocast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Antigona2.jpg"/>
          <p:cNvPicPr/>
          <p:nvPr/>
        </p:nvPicPr>
        <p:blipFill>
          <a:blip r:embed="rId2"/>
          <a:stretch/>
        </p:blipFill>
        <p:spPr>
          <a:xfrm>
            <a:off x="2786040" y="1571760"/>
            <a:ext cx="374004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786040" y="6072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onte, en l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Antíg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2:20:19Z</dcterms:created>
  <dc:creator>Maria</dc:creator>
  <dc:description/>
  <dc:language>en-US</dc:language>
  <cp:lastModifiedBy>Maria</cp:lastModifiedBy>
  <dcterms:modified xsi:type="dcterms:W3CDTF">2010-05-21T18:27:17Z</dcterms:modified>
  <cp:revision>34</cp:revision>
  <dc:subject/>
  <dc:title>Edipo Rey</dc:title>
</cp:coreProperties>
</file>